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jpeg" ContentType="image/jpeg"/>
  <Override PartName="/ppt/media/image27.jpeg" ContentType="image/jpeg"/>
  <Override PartName="/ppt/media/image13.wmf" ContentType="image/x-wmf"/>
  <Override PartName="/ppt/media/image1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png" ContentType="image/png"/>
  <Override PartName="/ppt/media/image31.png" ContentType="image/png"/>
  <Override PartName="/ppt/media/image10.wmf" ContentType="image/x-wmf"/>
  <Override PartName="/ppt/media/image25.jpeg" ContentType="image/jpeg"/>
  <Override PartName="/ppt/media/image32.png" ContentType="image/png"/>
  <Override PartName="/ppt/media/image4.gif" ContentType="image/gif"/>
  <Override PartName="/ppt/media/image1.jpeg" ContentType="image/jpeg"/>
  <Override PartName="/ppt/media/image15.wmf" ContentType="image/x-wmf"/>
  <Override PartName="/ppt/media/image22.jpeg" ContentType="image/jpeg"/>
  <Override PartName="/ppt/media/image8.wmf" ContentType="image/x-wmf"/>
  <Override PartName="/ppt/media/image33.wmf" ContentType="image/x-wmf"/>
  <Override PartName="/ppt/media/image26.jpeg" ContentType="image/jpeg"/>
  <Override PartName="/ppt/media/image30.png" ContentType="image/png"/>
  <Override PartName="/ppt/media/image7.wmf" ContentType="image/x-wmf"/>
  <Override PartName="/ppt/media/image20.jpeg" ContentType="image/jpeg"/>
  <Override PartName="/ppt/media/image5.jpeg" ContentType="image/jpeg"/>
  <Override PartName="/ppt/media/image11.wmf" ContentType="image/x-wmf"/>
  <Override PartName="/ppt/media/image17.jpeg" ContentType="image/jpeg"/>
  <Override PartName="/ppt/media/image23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media/image2.wmf" ContentType="image/x-wmf"/>
  <Override PartName="/ppt/media/image21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04B-D28E-44DC-90D4-60CF63DE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8FC-CDFB-4D13-AFB5-0956B7F2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F0B-4A98-4FC1-B01B-F2D9C7F0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171-4B15-4B63-BAAD-56CA6468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3162-1D71-42DB-A6BE-4BC9151F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B0CF-8A8A-4362-8368-F382EE58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DCE3-8495-4063-B576-F54B92F9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50CE-9D98-434C-8EB9-F839C3EB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418-DAFD-4CDF-8311-44CB48F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CB89-7D31-453C-9537-FA3E501E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86C2-FF1D-4E00-8B4C-A130DBB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8CE-85C6-46D3-8B73-A48A201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0FDD-55B5-461B-91E7-1E64C3A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D9D5-B654-43BF-B154-61F1C4C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F9B0-65CC-4C27-AE59-50DF9563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B3FA-015E-450A-9A83-7CF29246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AE0-B6DD-4506-B82D-0623FBDB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D2F-03EA-4BD5-BB28-BB5E10E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FFC-56EF-4539-845A-276F14F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C93-862B-498A-ABFB-A7CC792F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850-B2EC-41F0-A8AB-E4B94163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B4F-0815-4462-A33E-7C2173C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EBA-D9F5-4474-B5B3-9DDCB6B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8D4-F4BD-4100-B4D1-B05296B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BFBB-A7CF-435F-8827-7C36F1716D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E20-13F8-4FD4-8E01-09F9819B5C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30824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ĂRĂ NICI UN FIR DE AŢ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A ŢESUT ŢURŢURI DE GHEAŢ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CINE-I MEŞTER ISCUS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SPUNE, DACĂ AI GHICI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89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GHIC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48520" y="0"/>
          <a:ext cx="19954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8520" y="0"/>
                    <a:ext cx="19954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300720" y="4883040"/>
            <a:ext cx="2843280" cy="197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67640" y="4613400"/>
            <a:ext cx="2376360" cy="224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223524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564000" y="1844640"/>
          <a:ext cx="403380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844640"/>
                    <a:ext cx="40338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11280" y="3284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1440" y="260280"/>
          <a:ext cx="3217680" cy="482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260280"/>
                    <a:ext cx="32176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059280" y="620640"/>
            <a:ext cx="54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ÎMBRĂCĂM HAINE GROAS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5477040" cy="5589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0" y="26028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VINE MOŞ NICOLA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8200" y="1700280"/>
            <a:ext cx="2575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88000" y="4470480"/>
            <a:ext cx="2556000" cy="2109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87960" y="0"/>
            <a:ext cx="3956040" cy="4005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2920" y="-27000"/>
            <a:ext cx="39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1" lang="ro-RO" sz="4000" spc="-1" strike="noStrike">
                <a:solidFill>
                  <a:srgbClr val="3333ff"/>
                </a:solidFill>
                <a:latin typeface="Times New Roman"/>
              </a:rPr>
              <a:t>ĂRBĂTORIM CRĂCIUN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2141640"/>
            <a:ext cx="4716360" cy="47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123192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58580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4067280" y="4557600"/>
            <a:ext cx="2217600" cy="2049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B GEAM COLINDATOR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CEP   COLINDUL      L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  OAMENI  DE    ZAPAD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  EI  COLINDA-N    C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81640" y="115920"/>
            <a:ext cx="3762360" cy="486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709640"/>
            <a:ext cx="5148360" cy="514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620640"/>
            <a:ext cx="41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ŞI ANUL NO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00720" y="1947960"/>
            <a:ext cx="37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ELUTE   ARGINTI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U INCEPUT SA 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  BUCURA   COP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 HAINA DE ZAP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4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940360" y="907920"/>
            <a:ext cx="3203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ARNA LE ADUCE COPIILOR MULTE BUCURI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00720" y="4181400"/>
            <a:ext cx="284328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97320" cy="4365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4264200"/>
            <a:ext cx="2951280" cy="259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37200" y="1125360"/>
            <a:ext cx="4906800" cy="5732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8360" y="4428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PORTURILE DE IARNĂ SUNT BUCURIA TUTU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7280" y="3068640"/>
            <a:ext cx="7201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IZATOR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ÎNV.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RNELIA PRIH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ŞCOALA GENERALĂ IERN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404640"/>
            <a:ext cx="2340000" cy="19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198900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Times New Roman"/>
              </a:rPr>
              <a:t>IARNA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8000" y="1397160"/>
            <a:ext cx="90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-NCEPUT SĂ CEARN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FRIGUROASA IARN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HAI BĂBUŢĂ, C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SCUTECEL AŞTER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snowyborder.gif (4145 bytes)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115920"/>
            <a:ext cx="70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T E ALB PE C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ÂMP, PE DEALURI, ÎMPREJUR, ÎN DEPĂRTAR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97040" y="0"/>
          <a:ext cx="6546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0"/>
                    <a:ext cx="6546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08000" y="44280"/>
            <a:ext cx="47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INCEPUT SI GERUL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APARUT SI VANT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ELUTE     ARGINTI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OPERA PAMANT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443480" y="1557360"/>
          <a:ext cx="470052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3480" y="1557360"/>
                    <a:ext cx="47005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9640" y="476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UB P</a:t>
            </a:r>
            <a:r>
              <a:rPr b="1" lang="ro-RO" sz="2800" spc="-1" strike="noStrike">
                <a:solidFill>
                  <a:srgbClr val="3333ff"/>
                </a:solidFill>
                <a:latin typeface="Times New Roman"/>
              </a:rPr>
              <a:t>ĂTURA DE NEA, CÂMPUL ŞI PĂDUREA PAR ÎNCREMEN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693800"/>
          <a:ext cx="5148360" cy="511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93800"/>
                    <a:ext cx="514836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1125360"/>
          <a:ext cx="91440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O, BRAD FRUMOS, O BRAD FRUM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CETINA TOT VER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IMALELE ŞI PĂSĂRELELE ÎŞI GĂS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GRE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059280" y="0"/>
          <a:ext cx="608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0"/>
                    <a:ext cx="608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-181080" y="20509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PIII LE OFERĂ AJUTOR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9:32:26Z</dcterms:created>
  <dc:creator>Vasile Prihoi</dc:creator>
  <dc:description/>
  <dc:language>en-US</dc:language>
  <cp:lastModifiedBy>Vasile Prihoi</cp:lastModifiedBy>
  <dcterms:modified xsi:type="dcterms:W3CDTF">2007-02-27T20:04:25Z</dcterms:modified>
  <cp:revision>20</cp:revision>
  <dc:subject/>
  <dc:title>Diapozitivul 1</dc:title>
</cp:coreProperties>
</file>